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1FC-3E3B-4E70-A456-8DC00907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3B2-4D22-4915-BA9F-56513A31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3CB-73FC-43E1-990B-D9D2551E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F3A-5B9D-40CB-A94D-891B1D9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268-056C-4BDA-A751-44816607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397-389B-436E-996B-5731884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7FB-1BA1-46B2-96AF-2FDC076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5FE-B6CA-40D9-99E2-7E9C969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83B-5BFB-4B41-BB41-85434904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E86-E109-45D9-86C4-70B1A95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1EA-D6E4-45CF-96F3-B537551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6C4-4C79-48B0-BE7C-1B5AB37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327C-CE2F-4930-91A7-53149C167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= E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17680" y="1434960"/>
            <a:ext cx="824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expressions require a change of su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egrarse de que = to be happ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ir que = to regret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rar que = to hop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er que = to fear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er miedo de que = to be afr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starle que = to lik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rprenderle que = to surpris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antarle que = to lov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ojarle que = to be angr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arle que = to irritat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starle que to b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adarle que = to be angr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r orgulloso/a de que= to be proud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257800" y="167652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alegro de que Uds. hagan la t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032800" y="251460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nto que mi madre sea f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5185080" y="3276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o que Santa no ven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803840" y="388620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que Uds. tomen apu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089680" y="4227480"/>
            <a:ext cx="374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sorprende que el director de la escuela sepa bai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4185720" y="518148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irrita que la clase haga mucho r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las frases: Es triste que, Es feliz que, Me enoja que, Temo que, Me alegro de que, Siento que, etc. para responder. Remember to only use subjunctive with a change of subjec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i mejor amigo miente a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epe gana la carrera (r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ladrón entra en mi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is padres me dan un carro nu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Mi abuela está enfe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Mi hermanito es mimado (spoil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Tengo que regresar a casa a las diez de la noche los vier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Martín tiene que trabajar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Irene no tiene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Ricardo habla demasiado (too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30:08Z</dcterms:created>
  <dc:creator>Norwood Public Schools</dc:creator>
  <dc:description/>
  <dc:language>en-US</dc:language>
  <cp:lastModifiedBy>Jessica Kaplan</cp:lastModifiedBy>
  <dcterms:modified xsi:type="dcterms:W3CDTF">2013-02-25T16:52:02Z</dcterms:modified>
  <cp:revision>12</cp:revision>
  <dc:subject/>
  <dc:title>E= Emociones</dc:title>
</cp:coreProperties>
</file>